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0E1-97C4-4807-B497-341CE776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5FF9-AF06-4748-A30D-0F8CAD03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C9CE-2879-49F6-9015-81973F6E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1C8E-B137-4EDF-9AF7-D8473433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85C6-0068-4023-BEE1-702859B4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2146-A10A-4567-940E-22EE2EFD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3F9-2E26-4EB8-A04D-E488B95F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F44F-0BE5-42D4-B98B-EB34B49F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79C1-AC8F-4E6B-BDCA-22B08094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AD49-CF34-4E70-A437-B7FE4D24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64C0-FBFB-4D46-8822-91B11F5D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0DA5-A69F-4EBE-A4E8-6494B33B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56C4-0BD3-4100-AAC8-16066530B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991080" y="-1371600"/>
            <a:ext cx="1173492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</a:rPr>
              <a:t>THE ROCKY MOUNTA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520" y="2514600"/>
            <a:ext cx="6782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By:  Angelica and Jo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ttp://www.ok4me2.net/wordpress/wp-content/uploads/image/ok8_31/image/ok9_26/southern-RockyMountains.jpg"/>
          <p:cNvPicPr/>
          <p:nvPr/>
        </p:nvPicPr>
        <p:blipFill>
          <a:blip r:embed="rId1"/>
          <a:stretch/>
        </p:blipFill>
        <p:spPr>
          <a:xfrm>
            <a:off x="2209680" y="3048120"/>
            <a:ext cx="47628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ll E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ntain L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ack B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dge Pole P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nderosa P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od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45720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ll E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53352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ull Elk is a type of mo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i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i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od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5:41:38Z</dcterms:created>
  <dc:creator>user</dc:creator>
  <dc:description/>
  <dc:language>en-US</dc:language>
  <cp:lastModifiedBy>user</cp:lastModifiedBy>
  <dcterms:modified xsi:type="dcterms:W3CDTF">2011-03-21T21:36:50Z</dcterms:modified>
  <cp:revision>6</cp:revision>
  <dc:subject/>
  <dc:title>Title</dc:title>
</cp:coreProperties>
</file>